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52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52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9D04B-AC65-4719-B9F0-14DB466B2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AA7-54C3-4B1A-A00E-FC427405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89C-DE6E-43EF-A429-899B62CB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5E9-AC01-42B7-9F6B-893E5601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0BA-55E7-485A-A453-1D0CC765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F65-5783-47BC-8B31-8DB33441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8A1-0111-460E-8311-9BC42B30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201-1532-4E96-B87E-1D4B9CE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356-001A-412D-8EA0-6560D4B8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74D-5E7B-4857-9D42-92E7E77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D43-F606-44C0-BB20-F626FDD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866-D5D9-445D-B58F-939F3A89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749-B797-49EC-95ED-04BE9A41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AB8F1-AF83-4403-9702-1E374BC6B4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7848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. 3º Constituem diretrizes gerais de ação para implementação da Política Nacional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- a gestão sistemática dos recursos hídricos, sem dissociação dos aspectos de quantidade e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- a adequação da gestão de recursos hídricos às diversidades físicas, bióticas, demográficas, econômicas, sociais e culturais das diversas regiões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I - a integração da gestão de recursos hídricos com a gestão ambi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V - a articulação do planejamento de recursos hídricos com o dos setores usuários e com os planejamentos regional, estadual e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- a articulação da gestão de recursos hídricos com a do uso do so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 - a integração da gestão das bacias hidrográficas com a dos sistemas estuarinos e zonas cos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520" y="404640"/>
            <a:ext cx="594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LEI Nº 9.433, DE 8 DE JANEIRO 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3240" y="3956040"/>
            <a:ext cx="7238880" cy="1981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o de Integração d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I - GE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0440" y="4032360"/>
            <a:ext cx="83808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1560" y="5708520"/>
            <a:ext cx="761760" cy="38124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251320"/>
            <a:ext cx="60948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1846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39560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760" y="471816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9840" y="4641840"/>
            <a:ext cx="685800" cy="5335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727440"/>
            <a:ext cx="76212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37274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1720" y="372744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0160" y="3803760"/>
            <a:ext cx="68580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4840" y="380376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9560" y="52513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65960" y="5479920"/>
            <a:ext cx="76176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55562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B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7160" y="57848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T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64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960" y="43369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1212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iado no âmbito do PNGCII para promover a articulação das ações federais incidentes na Zona Costeira, a partir da aprovação de planos de ação fed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960" y="29797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0628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Articulação política e institucional na Esfera Federal para a condução do PN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14940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Institui a Câmara Técnica de Integr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estão das Bacias Hidrográficas e d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-CNR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o uso das competências que lhe são conferidas pelas Leis nos 9.433, de 8 de janeiro de 1997, e 9.984, de 17 de julho de 2000, e tendo em vista o disposto nos arts. 22 e 23 do seu Regimento Interno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que o art. 3o, inciso VI, da Lei no 9.433, de 1997, prevê a integração da gestão das bacias hidrográficas com a dos sistemas estuarinos e zonas costeiras como uma das diretrizes gerais de ação para a implementação da Política Nacional de Recursos Hídric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o constante da Lei no 7.661, de 16 de maio de 1988, que instituiu o Plano Nacional de Gerenciamento Coste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a necessidade de otimizar esforços para maior integração das ações entre os colegiados costeiros e os comitês de bacia hidrográfica, resol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1o Instituir a Câmara Técnica de Integração da Gestão das Bacias Hidrográficas e dos Sistemas 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4200" y="22068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2o São competências da Câmara Téc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- analisar e propor mecanismos de integração das políticas de gestão de recursos hídricos e de gerenciamento costeiro, considerando também as demais políticas públicas inciden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 - propor mecanismos de integração dos instrumentos das políticas e indicadores comuns para o gerenciament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I - analisar e propor ações visando a minimização ou solução de conflitos de us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V - propor mecanismos de intercâmbio técnico e institucional entre as instâncias responsáveis pelas respectivas polític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 - analisar, estudar e emitir pareceres sobre assunto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 - exercer competências do CNRH que lhe forem especialmente delegadas pelo Ple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3o A composição da Câmara Técnica e o mandato dos seus membros serão definidos conforme estabelecido no Regimento Interno do CN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4o A Câmara Técnica terá prazo de dois meses, a partir da publicação desta Resoluçã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ra sua instalação, cabendo à Secretaria -Executiva cooperar com sua efeti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5o Esta Resolução entra em vigor na data de sua publ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1324080"/>
            <a:ext cx="77389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São instrumentos de gestão dos Recursos Hídricos, conforme art. 5o. da Lei n. 9433, de 08 de janeiro de 199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s Planos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enquadramento dos corpos de água em classes, segundo os usos preponderantes da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utorga dos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Sistema de Informações sobr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158760"/>
            <a:ext cx="669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NSTRUMENTOS DE GESTÃ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5516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3, de 25 de setembr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a implementação do Sistema Nacional de Informações sobr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700280"/>
            <a:ext cx="792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2, de 19 de julh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procedimentos para o enquadramento de corpos de água em classes segundo os usos preponder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924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6, de 08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outorga de direito de us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404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7, de 29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elaboração dos Planos de Recursos Hídricos d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2210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48, de 21 de março de 200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cobrança pel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9280" y="19407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S RESOLUÇÕES CNRH Nº. 12, 13, 16, 17 E 48 E PROPOR EVENTUAIS AJUSTES NELAS VISANDO A INTEGRAÇÃO DOS INSTRUMENTOS DAS POLÍTICAS E INDICADORES COMUNS PARA O GERENCIAMENTO DE RECURSOS HÍDRICOS NA ZONA COSTEIRA E SISTEMAS ESTUARI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55548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2800" y="210168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 MINUTA DO PL 1616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1800" y="339840"/>
            <a:ext cx="261612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ori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1484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DETALHAR O PROGRAMA SOBRE ZONA COSTEIRA QUE CONSTA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2640" y="3427560"/>
            <a:ext cx="75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omponente de Programas Regionais de Recursos Hídricos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640" y="476316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 ao Gerenciamento Costei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997360"/>
            <a:ext cx="8064360" cy="331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280" y="1916280"/>
            <a:ext cx="80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O DECRETO Nº 5.300, DE 07 DE DEZEMBRO DE 2004 QUE REGULAMENTOU A LEI N° 7661, DE 16 DE MAIO DE 1988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aquim</dc:creator>
  <dc:description/>
  <dc:language>en-US</dc:language>
  <cp:lastModifiedBy>joaquim</cp:lastModifiedBy>
  <cp:revision>0</cp:revision>
  <dc:subject/>
  <dc:title>Slide 1</dc:title>
</cp:coreProperties>
</file>